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B58-684B-4F59-A29D-9B634283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F96E-996E-47E4-B6C4-1745D60C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314-032E-4FF5-B91B-B6A87073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058-16B2-454E-8678-E8FD0040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88B4-5AFD-4C21-A52E-763AFFBF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571A-EA58-496B-8AEE-CCA2FD72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EDEA-1D94-4282-A0BA-6C3387C7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F80B-229C-424E-AE6C-8336140D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DDF4-5CE5-4612-A457-69A2BD0D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0271-0050-438F-AFB9-5CA6830B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F9DB-3317-47D6-9A49-4F6B4A7A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091-9571-47A1-81C5-C0297EBD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FE15-D98A-466C-BE3D-C6CBEF83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01D2-ECBB-43FE-8E08-EA470221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9AEC-A5D0-45ED-A4C9-7CDD75F3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DFB0-4F08-4CA8-B484-78413DF6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8681-8DC6-4FDB-8668-00DBE436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416-37E3-4664-9E43-6C1F7472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30C-1250-444D-9B61-F74FD11B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AC27-B131-44A7-82A0-18CFACF4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3F0-EEC8-44B3-B525-223485A4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942-7692-4223-88F5-E3692D42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428-BB7F-4A5A-A74E-4FDABD07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97D-1751-4358-8A04-0317B8F2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D49E-0407-46B3-9367-9B99843F06DD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F82A-05E6-4F8B-ADD8-19AC105EF4A1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hapter 28:  Unemploymen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76720" y="3505320"/>
            <a:ext cx="441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’s not a simple stroll on the beac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362B-DA5B-4E7B-8B8F-981BB6A43B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Giving up hop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blems aris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ton of newbies to job forc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ld guys decide to try agai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CSOURAGED WORK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LL KIND OF DISTORT PICTU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9BC-147B-49B6-8EFC-60156E3E2A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Get rid of on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YCLICAL is the guy we try to avoi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lways some but why gov’t fight now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ASONAL, FRICTIONAL, STRUCTURA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ELP IS ON THE W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AC6-F118-48C5-A039-1866282523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xpensive to figh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nding that out now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ut trying to help sometimes hurt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UNEMPLOYMENT INSURANC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has changed as of lat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w will minimum wage, unions, &amp; efficiency wages impact it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A9B-46CA-457A-9938-517EE716F2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ake a pictur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648-78B8-4B8B-839D-DA76A39FDA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Is it really worth fighting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t’s expensive but consider the costs of doing nothi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ot worth i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s current plan effectiv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blem arises when again considering the graph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560-72C1-48E1-9AF4-7229452769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ome guy figured it ou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nd 2% decrease in GDP compared to potential = 1% increase in unemploy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 is our economy now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y will we continue to see increase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’s the best approach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member the focus on growth &amp; productiv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9896-D986-4056-A83E-29E57B8D4F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t’s like homework…never going away completel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ry to manage &amp; regulate (gov’t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in goal is overall stabilit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C37D-371E-45D2-9D29-3B79751588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cus on unemploy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fferent typ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ong-run vs short-ru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ATURAL RATE OF UNEMPLOYMENT (graph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auses of i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16 sl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5F5-5B4E-4EC6-8963-77381076F8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Vocab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atural rate of un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yclical, frictional, structural, seasona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scouraged work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fficiency wag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7C4-8538-4987-8CD4-950763D4FD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It’s not always a bad gu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s it only bad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oal not to eliminate completel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ven possibl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cus on difference between long &amp; short ru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15B-19CA-401A-8E6B-7A120F1027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Natural vs cyclical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economy has ability to self-correc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luctuations smoothe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andbar speech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ome is almost necessary, or at least inevitabl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fference comes from typ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B188-9800-4AD8-9A1E-62F7B6FF73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Inevitabl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You will always have som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oal is to keep economy functioning at capacit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ATURAL RATE (LONG RUN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luctuations like now due to business cycle (CYCLICAL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icture it with a graph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E914-4D63-4DEA-8DA4-0F1898ADBE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It’s a full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atural is the same as FULL EMPLOYMEN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ate economy hovers aroun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oesn’t mean it’s ideal, but that’s just what it i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~4-5.5%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1814-EE6E-4EE0-B921-444AA9522D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ake a drop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en economy is bad (kinda like now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YCLICA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ry to avoid &amp; fight agains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ut how is it calculated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09A-25D5-4443-9119-1DDCF49AAB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ompar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ABOR FORCE, EMPLOYED, UNEMPLOYED, NOT IN LABOR FORC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UN = unemployed / labor force x 100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lso consider labor force participation rat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5C0-2794-4313-9EDE-A02609D074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4:04:54Z</dcterms:created>
  <dc:creator>Lewisburg Area School District</dc:creator>
  <dc:description/>
  <dc:language>en-US</dc:language>
  <cp:lastModifiedBy>Lewisburg Area School District</cp:lastModifiedBy>
  <dcterms:modified xsi:type="dcterms:W3CDTF">2010-02-03T17:00:33Z</dcterms:modified>
  <cp:revision>7</cp:revision>
  <dc:subject/>
  <dc:title>Chapter 28:  Unemployment</dc:title>
</cp:coreProperties>
</file>